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A797-46C7-4EA0-BCBB-B1210731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13D6-4BEC-47E1-AF8D-61B59CB6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584B-5F96-473E-89B1-A7877BDF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C474-590F-4A63-A7F5-C06BDD5A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DBF8-37B4-47E4-8639-B7410B8A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1236-4C2D-41A3-9F56-0987D517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5FDB-C2D8-451A-8450-CBC43B9F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1592-F937-4323-B4F8-BF48DD8F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1F43-F9AC-408F-AAB9-66F548FD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985B-E187-4BFF-A5E0-6E23DDDD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3DA9-AAD4-46BA-AE52-F82F652E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8B23-680A-481D-9A15-131B2E63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1217-0065-4BDA-94C0-7E531C37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D05A-5607-418E-851B-3E7BD243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57AE-AF22-4CCD-9348-7719EE6C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B395-B1E5-4D68-B82B-05993847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D639-4CE5-4652-8D19-ED9BE59F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DEAAE-B627-4989-9547-073B1AEE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FD9E4-DC57-45FA-819D-C5F130B5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4F07C-842B-42DE-82C1-29893045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918B7-0E17-449B-9F80-370CD1F4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63531-B013-4E8C-9B7E-1380FF9B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CC80-30E5-46C5-87C4-E8FB770B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54120-FAC0-487D-8994-52C92A7E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0A35C-47E3-472D-8757-EB7FB367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09DBC-7A0A-4260-8626-2EF3731F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67680-BAC6-4008-987D-C4D80C30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ACB00-0BAC-49B9-806C-F322584E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DBC5B-828F-4253-9AE3-EF2D2340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2F9FE-D70F-409C-8959-78E113DE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8B0BF-77CA-4F06-8D74-978B936E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45572-2F58-4E5E-B250-9C07EEAE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85DE1-AAD1-474A-9E3F-0F86F32C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8F33-F990-4442-AABC-DC0DDD9B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8AC93-9B55-4135-8514-98AC13EB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F6435-B7D3-4ADC-A250-9D3AC7D1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11C4D-76B5-4E2D-ABA7-0B5AAC6F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06ED8-CF18-4E79-B1F5-A220BF3F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28934-A51F-4A54-8DFE-D721FF7C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6C125-40F4-4F3F-906C-40E55BB0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80CF9-449C-4701-B94F-29FEBB90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5AA37-29CA-4C23-9007-887293B6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CB723-159C-4E6A-867A-F0CAED7E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9783B-7B00-46CF-A4AB-9D0C6E8A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A0DB-7B50-4FB4-966D-0E9D94AF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3FD3C-8D32-49A1-80AB-C26D6E15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B1A18-68A9-4980-818D-49760314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9D33B-50D4-479E-9989-9A91A298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66443-FBB5-4FD0-BF0A-76C3F3CE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AD149-A241-4F8F-8C8F-97DE82AA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F401C-5A0B-46A1-A41D-CB0B3761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54C2C-D9A5-4D89-B5D1-AB46C8EF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1C3AC-B671-47D1-87C6-FCE33024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AEEB6-BAD0-49B9-889E-CEE84AB1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3B88B-A262-41D3-8A3F-5EF29429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F516-7E2E-4300-BF75-95E7C09B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E3D81-47B4-4DBD-9964-695A3C5E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4E578-91FD-4795-A25D-C62AE260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F5711-3401-4C73-95AD-92F706CF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9E477-EE1E-414B-93B2-88853B44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1DE6A-0552-4BCC-97AB-A77CDB57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351A9-35A4-4D5A-BC84-4545AE4D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4CF44-388C-464F-BCEC-9D7FA91A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66EF3-43A5-44BA-9A0F-4AE1913F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EE3CC-2456-43E7-B840-55EB8CD1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DB7D6-6E99-4EEF-8641-43D58792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76A0-8037-4A9B-B0B2-9D56FFDB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FD2E9-18CB-4F1B-8DD8-70D63FEA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11686-5760-409A-8B74-72191343B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9C8BD-1AA6-48BE-9E81-12C98B55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9206F-287F-4C66-833A-C5E0DF9C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CB07A-126E-4C95-91E3-7A25E75A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FE2E4-6664-442C-8A21-DC165E01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25E39-E71E-4DA0-851C-51316AA9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0AF9B-453F-4A6A-90B1-CEF16390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602C8-7D39-42C6-9B8E-DC3FEE02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E6633-0267-4A0A-BDB3-EA16EB8A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F833-7F07-462B-89A1-FF826D03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B6773-4887-442F-83E0-442FF553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05A5D-90FE-47F5-9FDC-FA1368C9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8E88A-B556-486A-BBDF-D82B2E51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DB846-84BA-4943-B4B4-F47E1879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8B1A2-5E39-4143-BAAC-CF74AE55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4B7B-C620-4467-B54B-B41B2A04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9018-B550-45E1-A09C-9E476AA797E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6489-9D50-4C1A-B8B8-C9A69B6F630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F987-7E98-4FB2-A774-CE79F6DF4D4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5C53-EF23-44BC-B1E4-B903E2EA844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AFC4-47DE-44A8-B3D1-F69361B205F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DAC8-BAD3-41A4-889B-FF420447F75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8DF2-9342-4578-BB7A-F3FD15CCFA3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0294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b1d15"/>
                </a:solidFill>
                <a:latin typeface="Arial Black"/>
              </a:rPr>
              <a:t>Аксонометрическое проецирование. Аксонометрические проекции.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99680" y="1143000"/>
            <a:ext cx="8124840" cy="5143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b1d15"/>
                </a:solidFill>
                <a:latin typeface="a_Helver Bashkir"/>
              </a:rPr>
              <a:t>Наглядное изображение предметов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1"/>
          <a:stretch/>
        </p:blipFill>
        <p:spPr>
          <a:xfrm>
            <a:off x="1319040" y="1643040"/>
            <a:ext cx="74678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6"/>
          <p:cNvSpPr/>
          <p:nvPr/>
        </p:nvSpPr>
        <p:spPr>
          <a:xfrm rot="17388000">
            <a:off x="5522400" y="4300200"/>
            <a:ext cx="79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5436a"/>
                </a:solidFill>
                <a:latin typeface="Calibri"/>
              </a:rPr>
              <a:t>4</a:t>
            </a:r>
            <a:r>
              <a:rPr b="1" lang="en-US" sz="2600" spc="-1" strike="noStrike" baseline="30000">
                <a:solidFill>
                  <a:srgbClr val="35436a"/>
                </a:solidFill>
                <a:latin typeface="Calibri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18880" y="333000"/>
            <a:ext cx="798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b3e21"/>
                </a:solidFill>
                <a:latin typeface="Alex_Bash_Arial2"/>
                <a:ea typeface="Alex_Bash_Arial2"/>
              </a:rPr>
              <a:t>Расположение осей в косоугольной фронтальной диметрической проекции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4572000" y="2349360"/>
            <a:ext cx="4608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2411280" y="4149720"/>
            <a:ext cx="232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5"/>
          <p:cNvSpPr/>
          <p:nvPr/>
        </p:nvSpPr>
        <p:spPr>
          <a:xfrm flipH="1" flipV="1">
            <a:off x="4571640" y="4149720"/>
            <a:ext cx="201780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6"/>
          <p:cNvSpPr/>
          <p:nvPr/>
        </p:nvSpPr>
        <p:spPr>
          <a:xfrm>
            <a:off x="4572000" y="4149720"/>
            <a:ext cx="457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6429240" y="3789360"/>
            <a:ext cx="250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5436a"/>
                </a:solidFill>
                <a:latin typeface="Calibri"/>
              </a:rPr>
              <a:t>горизонталь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4346640" y="1952640"/>
            <a:ext cx="46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9"/>
          <p:cNvSpPr/>
          <p:nvPr/>
        </p:nvSpPr>
        <p:spPr>
          <a:xfrm>
            <a:off x="2052720" y="3782880"/>
            <a:ext cx="46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6443640" y="5157720"/>
            <a:ext cx="46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rc 11"/>
          <p:cNvSpPr/>
          <p:nvPr/>
        </p:nvSpPr>
        <p:spPr>
          <a:xfrm flipH="1">
            <a:off x="4562640" y="2666880"/>
            <a:ext cx="1698480" cy="1486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rc 13"/>
          <p:cNvSpPr/>
          <p:nvPr/>
        </p:nvSpPr>
        <p:spPr>
          <a:xfrm flipH="1">
            <a:off x="4572000" y="4154400"/>
            <a:ext cx="1698480" cy="879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4"/>
          <p:cNvSpPr/>
          <p:nvPr/>
        </p:nvSpPr>
        <p:spPr>
          <a:xfrm rot="3337200">
            <a:off x="5628600" y="2891520"/>
            <a:ext cx="79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5436a"/>
                </a:solidFill>
                <a:latin typeface="Calibri"/>
              </a:rPr>
              <a:t>9</a:t>
            </a: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0</a:t>
            </a:r>
            <a:r>
              <a:rPr b="1" lang="en-US" sz="2600" spc="-1" strike="noStrike" baseline="30000">
                <a:solidFill>
                  <a:srgbClr val="35436a"/>
                </a:solidFill>
                <a:latin typeface="Calibri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7"/>
          <p:cNvSpPr/>
          <p:nvPr/>
        </p:nvSpPr>
        <p:spPr>
          <a:xfrm>
            <a:off x="4572000" y="1989000"/>
            <a:ext cx="116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K=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8"/>
          <p:cNvSpPr/>
          <p:nvPr/>
        </p:nvSpPr>
        <p:spPr>
          <a:xfrm>
            <a:off x="1763640" y="4221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6372360" y="5589720"/>
            <a:ext cx="116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K=0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1214280" y="642960"/>
          <a:ext cx="7786800" cy="4143240"/>
        </p:xfrm>
        <a:graphic>
          <a:graphicData uri="http://schemas.openxmlformats.org/drawingml/2006/table">
            <a:tbl>
              <a:tblPr/>
              <a:tblGrid>
                <a:gridCol w="7786800"/>
              </a:tblGrid>
              <a:tr h="414324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900" spc="-1" strike="noStrike">
                          <a:solidFill>
                            <a:srgbClr val="922223"/>
                          </a:solidFill>
                          <a:latin typeface="Times New Roman"/>
                          <a:ea typeface="Times New Roman"/>
                        </a:rPr>
                        <a:t>Зрительное восприятие является для человека самым наглядным и информативным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922223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900" spc="-1" strike="noStrike">
                          <a:solidFill>
                            <a:srgbClr val="922223"/>
                          </a:solidFill>
                          <a:latin typeface="Times New Roman"/>
                          <a:ea typeface="Times New Roman"/>
                        </a:rPr>
                        <a:t>Аксонометрические проекции обладают достаточной наглядностью поэтому их используют в дизайне, архитектуре, инженерном деле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1" name="Picture 5" descr="http://im8-tub-ru.yandex.net/i?id=14251198-19-72"/>
          <p:cNvPicPr/>
          <p:nvPr/>
        </p:nvPicPr>
        <p:blipFill>
          <a:blip r:embed="rId1"/>
          <a:stretch/>
        </p:blipFill>
        <p:spPr>
          <a:xfrm>
            <a:off x="1357200" y="4643280"/>
            <a:ext cx="1571760" cy="1928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7" descr="http://im0-tub-ru.yandex.net/i?id=328362795-15-72"/>
          <p:cNvPicPr/>
          <p:nvPr/>
        </p:nvPicPr>
        <p:blipFill>
          <a:blip r:embed="rId2"/>
          <a:stretch/>
        </p:blipFill>
        <p:spPr>
          <a:xfrm>
            <a:off x="3500280" y="4643280"/>
            <a:ext cx="2286000" cy="18576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9" descr="http://im7-tub-ru.yandex.net/i?id=247678577-12-72"/>
          <p:cNvPicPr/>
          <p:nvPr/>
        </p:nvPicPr>
        <p:blipFill>
          <a:blip r:embed="rId3"/>
          <a:stretch/>
        </p:blipFill>
        <p:spPr>
          <a:xfrm>
            <a:off x="6286680" y="4071960"/>
            <a:ext cx="2286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426" name="Picture 5" descr="Построить изометрическую проекцию детали по чертежу."/>
          <p:cNvPicPr/>
          <p:nvPr/>
        </p:nvPicPr>
        <p:blipFill>
          <a:blip r:embed="rId1"/>
          <a:stretch/>
        </p:blipFill>
        <p:spPr>
          <a:xfrm>
            <a:off x="857160" y="285840"/>
            <a:ext cx="77155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Line 2"/>
          <p:cNvSpPr/>
          <p:nvPr/>
        </p:nvSpPr>
        <p:spPr>
          <a:xfrm>
            <a:off x="4572000" y="126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4284720" y="83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133200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81010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4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5"/>
          <p:cNvSpPr/>
          <p:nvPr/>
        </p:nvSpPr>
        <p:spPr>
          <a:xfrm flipV="1">
            <a:off x="326088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9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0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6.93642E-007 L 0.21493 0.1459 E">
                                      <p:cBhvr>
                                        <p:cTn id="190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32 0.16898 L 5E-006 2.22222E-006 E">
                                      <p:cBhvr>
                                        <p:cTn id="193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Line 2"/>
          <p:cNvSpPr/>
          <p:nvPr/>
        </p:nvSpPr>
        <p:spPr>
          <a:xfrm>
            <a:off x="4572000" y="126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3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4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4284720" y="83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133200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81010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8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9"/>
          <p:cNvSpPr/>
          <p:nvPr/>
        </p:nvSpPr>
        <p:spPr>
          <a:xfrm flipV="1">
            <a:off x="326088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0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1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2"/>
          <p:cNvSpPr/>
          <p:nvPr/>
        </p:nvSpPr>
        <p:spPr>
          <a:xfrm>
            <a:off x="4572000" y="342900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3"/>
          <p:cNvSpPr/>
          <p:nvPr/>
        </p:nvSpPr>
        <p:spPr>
          <a:xfrm>
            <a:off x="262728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"/>
          <p:cNvSpPr/>
          <p:nvPr/>
        </p:nvSpPr>
        <p:spPr>
          <a:xfrm>
            <a:off x="6516720" y="2276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5"/>
          <p:cNvSpPr/>
          <p:nvPr/>
        </p:nvSpPr>
        <p:spPr>
          <a:xfrm>
            <a:off x="4572000" y="12938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9259E-006 L 0.21285 0.14305 E">
                                      <p:cBhvr>
                                        <p:cTn id="205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Line 2"/>
          <p:cNvSpPr/>
          <p:nvPr/>
        </p:nvSpPr>
        <p:spPr>
          <a:xfrm>
            <a:off x="4572000" y="126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4284720" y="83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133200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7"/>
          <p:cNvSpPr/>
          <p:nvPr/>
        </p:nvSpPr>
        <p:spPr>
          <a:xfrm>
            <a:off x="81010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8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9"/>
          <p:cNvSpPr/>
          <p:nvPr/>
        </p:nvSpPr>
        <p:spPr>
          <a:xfrm flipV="1">
            <a:off x="326088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0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1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2"/>
          <p:cNvSpPr/>
          <p:nvPr/>
        </p:nvSpPr>
        <p:spPr>
          <a:xfrm>
            <a:off x="4572000" y="342900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3"/>
          <p:cNvSpPr/>
          <p:nvPr/>
        </p:nvSpPr>
        <p:spPr>
          <a:xfrm>
            <a:off x="262728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4"/>
          <p:cNvSpPr/>
          <p:nvPr/>
        </p:nvSpPr>
        <p:spPr>
          <a:xfrm>
            <a:off x="6516720" y="2276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5"/>
          <p:cNvSpPr/>
          <p:nvPr/>
        </p:nvSpPr>
        <p:spPr>
          <a:xfrm>
            <a:off x="4572000" y="12938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6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7"/>
          <p:cNvSpPr/>
          <p:nvPr/>
        </p:nvSpPr>
        <p:spPr>
          <a:xfrm flipV="1">
            <a:off x="327672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8"/>
          <p:cNvSpPr/>
          <p:nvPr/>
        </p:nvSpPr>
        <p:spPr>
          <a:xfrm flipH="1" flipV="1">
            <a:off x="4571640" y="1989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9"/>
          <p:cNvSpPr/>
          <p:nvPr/>
        </p:nvSpPr>
        <p:spPr>
          <a:xfrm flipV="1">
            <a:off x="3276720" y="298116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20"/>
          <p:cNvSpPr/>
          <p:nvPr/>
        </p:nvSpPr>
        <p:spPr>
          <a:xfrm flipH="1" flipV="1">
            <a:off x="2626920" y="315720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1"/>
          <p:cNvSpPr/>
          <p:nvPr/>
        </p:nvSpPr>
        <p:spPr>
          <a:xfrm flipV="1">
            <a:off x="1332000" y="198900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-3.7037E-007 L 0.00104 -0.15463 E">
                                      <p:cBhvr>
                                        <p:cTn id="222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2222E-006 L -0.00017 -0.15486 E">
                                      <p:cBhvr>
                                        <p:cTn id="227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0052 -0.15417 E">
                                      <p:cBhvr>
                                        <p:cTn id="232" dur="2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33333E-006 L -1.38889E-006 -0.15301 E">
                                      <p:cBhvr>
                                        <p:cTn id="237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Line 2"/>
          <p:cNvSpPr/>
          <p:nvPr/>
        </p:nvSpPr>
        <p:spPr>
          <a:xfrm>
            <a:off x="4572000" y="126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4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4284720" y="83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133200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7"/>
          <p:cNvSpPr/>
          <p:nvPr/>
        </p:nvSpPr>
        <p:spPr>
          <a:xfrm>
            <a:off x="81010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8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9"/>
          <p:cNvSpPr/>
          <p:nvPr/>
        </p:nvSpPr>
        <p:spPr>
          <a:xfrm flipV="1">
            <a:off x="326088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0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1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2"/>
          <p:cNvSpPr/>
          <p:nvPr/>
        </p:nvSpPr>
        <p:spPr>
          <a:xfrm>
            <a:off x="4572000" y="342900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3"/>
          <p:cNvSpPr/>
          <p:nvPr/>
        </p:nvSpPr>
        <p:spPr>
          <a:xfrm>
            <a:off x="262728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4"/>
          <p:cNvSpPr/>
          <p:nvPr/>
        </p:nvSpPr>
        <p:spPr>
          <a:xfrm>
            <a:off x="6516720" y="2276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5"/>
          <p:cNvSpPr/>
          <p:nvPr/>
        </p:nvSpPr>
        <p:spPr>
          <a:xfrm>
            <a:off x="4572000" y="12938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6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7"/>
          <p:cNvSpPr/>
          <p:nvPr/>
        </p:nvSpPr>
        <p:spPr>
          <a:xfrm flipV="1">
            <a:off x="327672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8"/>
          <p:cNvSpPr/>
          <p:nvPr/>
        </p:nvSpPr>
        <p:spPr>
          <a:xfrm flipH="1" flipV="1">
            <a:off x="4571640" y="1989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9"/>
          <p:cNvSpPr/>
          <p:nvPr/>
        </p:nvSpPr>
        <p:spPr>
          <a:xfrm flipV="1">
            <a:off x="3276720" y="298116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0"/>
          <p:cNvSpPr/>
          <p:nvPr/>
        </p:nvSpPr>
        <p:spPr>
          <a:xfrm flipH="1" flipV="1">
            <a:off x="2626920" y="315720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21"/>
          <p:cNvSpPr/>
          <p:nvPr/>
        </p:nvSpPr>
        <p:spPr>
          <a:xfrm flipV="1">
            <a:off x="1332000" y="198900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-3.7037E-007 L 0.00104 -0.15463 E">
                                      <p:cBhvr>
                                        <p:cTn id="246" dur="2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2222E-006 L -0.00017 -0.15486 E">
                                      <p:cBhvr>
                                        <p:cTn id="251" dur="2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0052 -0.15417 E">
                                      <p:cBhvr>
                                        <p:cTn id="256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33333E-006 L -1.38889E-006 -0.15301 E">
                                      <p:cBhvr>
                                        <p:cTn id="261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34"/>
          <p:cNvGrpSpPr/>
          <p:nvPr/>
        </p:nvGrpSpPr>
        <p:grpSpPr>
          <a:xfrm>
            <a:off x="2625840" y="1988640"/>
            <a:ext cx="3890880" cy="3245400"/>
            <a:chOff x="2625840" y="1988640"/>
            <a:chExt cx="3890880" cy="3245400"/>
          </a:xfrm>
        </p:grpSpPr>
        <p:sp>
          <p:nvSpPr>
            <p:cNvPr id="492" name="Line 22"/>
            <p:cNvSpPr/>
            <p:nvPr/>
          </p:nvSpPr>
          <p:spPr>
            <a:xfrm flipV="1">
              <a:off x="2625840" y="1988640"/>
              <a:ext cx="1942920" cy="115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23"/>
            <p:cNvSpPr/>
            <p:nvPr/>
          </p:nvSpPr>
          <p:spPr>
            <a:xfrm>
              <a:off x="4572000" y="1989000"/>
              <a:ext cx="1944720" cy="10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24"/>
            <p:cNvSpPr/>
            <p:nvPr/>
          </p:nvSpPr>
          <p:spPr>
            <a:xfrm>
              <a:off x="2627280" y="3141720"/>
              <a:ext cx="1944720" cy="10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25"/>
            <p:cNvSpPr/>
            <p:nvPr/>
          </p:nvSpPr>
          <p:spPr>
            <a:xfrm flipV="1">
              <a:off x="4572000" y="2997000"/>
              <a:ext cx="1944720" cy="11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26"/>
            <p:cNvSpPr/>
            <p:nvPr/>
          </p:nvSpPr>
          <p:spPr>
            <a:xfrm>
              <a:off x="2627280" y="3141720"/>
              <a:ext cx="0" cy="10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27"/>
            <p:cNvSpPr/>
            <p:nvPr/>
          </p:nvSpPr>
          <p:spPr>
            <a:xfrm>
              <a:off x="4572000" y="4143240"/>
              <a:ext cx="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28"/>
            <p:cNvSpPr/>
            <p:nvPr/>
          </p:nvSpPr>
          <p:spPr>
            <a:xfrm>
              <a:off x="6516720" y="2997360"/>
              <a:ext cx="0" cy="10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29"/>
            <p:cNvSpPr/>
            <p:nvPr/>
          </p:nvSpPr>
          <p:spPr>
            <a:xfrm flipV="1">
              <a:off x="4567320" y="4081320"/>
              <a:ext cx="1944720" cy="115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30"/>
            <p:cNvSpPr/>
            <p:nvPr/>
          </p:nvSpPr>
          <p:spPr>
            <a:xfrm>
              <a:off x="2627280" y="4221000"/>
              <a:ext cx="1944720" cy="10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31"/>
            <p:cNvSpPr/>
            <p:nvPr/>
          </p:nvSpPr>
          <p:spPr>
            <a:xfrm flipV="1">
              <a:off x="2627280" y="3068280"/>
              <a:ext cx="1943280" cy="11509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32"/>
            <p:cNvSpPr/>
            <p:nvPr/>
          </p:nvSpPr>
          <p:spPr>
            <a:xfrm>
              <a:off x="4572000" y="3068640"/>
              <a:ext cx="194472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33"/>
            <p:cNvSpPr/>
            <p:nvPr/>
          </p:nvSpPr>
          <p:spPr>
            <a:xfrm>
              <a:off x="4572000" y="1989000"/>
              <a:ext cx="0" cy="1079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491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По наглядному изображению найти вид главный и вид сверху."/>
          <p:cNvPicPr/>
          <p:nvPr/>
        </p:nvPicPr>
        <p:blipFill>
          <a:blip r:embed="rId1"/>
          <a:stretch/>
        </p:blipFill>
        <p:spPr>
          <a:xfrm>
            <a:off x="1071720" y="428760"/>
            <a:ext cx="7715160" cy="6215040"/>
          </a:xfrm>
          <a:prstGeom prst="rect">
            <a:avLst/>
          </a:prstGeom>
          <a:ln w="0">
            <a:noFill/>
          </a:ln>
        </p:spPr>
      </p:pic>
      <p:sp>
        <p:nvSpPr>
          <p:cNvPr id="322" name="TextBox 3"/>
          <p:cNvSpPr/>
          <p:nvPr/>
        </p:nvSpPr>
        <p:spPr>
          <a:xfrm>
            <a:off x="5143680" y="134928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8" descr=""/>
          <p:cNvPicPr/>
          <p:nvPr/>
        </p:nvPicPr>
        <p:blipFill>
          <a:blip r:embed="rId2"/>
          <a:stretch/>
        </p:blipFill>
        <p:spPr>
          <a:xfrm>
            <a:off x="6558120" y="3933720"/>
            <a:ext cx="377640" cy="185760"/>
          </a:xfrm>
          <a:prstGeom prst="rect">
            <a:avLst/>
          </a:prstGeom>
          <a:ln w="0">
            <a:noFill/>
          </a:ln>
        </p:spPr>
      </p:pic>
      <p:sp>
        <p:nvSpPr>
          <p:cNvPr id="324" name="TextBox 18"/>
          <p:cNvSpPr/>
          <p:nvPr/>
        </p:nvSpPr>
        <p:spPr>
          <a:xfrm>
            <a:off x="7429680" y="128592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9"/>
          <p:cNvSpPr/>
          <p:nvPr/>
        </p:nvSpPr>
        <p:spPr>
          <a:xfrm>
            <a:off x="6357960" y="128592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0"/>
          <p:cNvSpPr/>
          <p:nvPr/>
        </p:nvSpPr>
        <p:spPr>
          <a:xfrm>
            <a:off x="5267160" y="2492280"/>
            <a:ext cx="376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0"/>
          <p:cNvSpPr/>
          <p:nvPr/>
        </p:nvSpPr>
        <p:spPr>
          <a:xfrm>
            <a:off x="5286240" y="2500200"/>
            <a:ext cx="285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0"/>
          <p:cNvSpPr/>
          <p:nvPr/>
        </p:nvSpPr>
        <p:spPr>
          <a:xfrm>
            <a:off x="6500880" y="2428920"/>
            <a:ext cx="376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0"/>
          <p:cNvSpPr/>
          <p:nvPr/>
        </p:nvSpPr>
        <p:spPr>
          <a:xfrm>
            <a:off x="7500960" y="235728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0"/>
          <p:cNvSpPr/>
          <p:nvPr/>
        </p:nvSpPr>
        <p:spPr>
          <a:xfrm>
            <a:off x="5429160" y="385776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20"/>
          <p:cNvSpPr/>
          <p:nvPr/>
        </p:nvSpPr>
        <p:spPr>
          <a:xfrm>
            <a:off x="6572160" y="3857760"/>
            <a:ext cx="285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0"/>
          <p:cNvSpPr/>
          <p:nvPr/>
        </p:nvSpPr>
        <p:spPr>
          <a:xfrm>
            <a:off x="7715160" y="3786120"/>
            <a:ext cx="376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20"/>
          <p:cNvSpPr/>
          <p:nvPr/>
        </p:nvSpPr>
        <p:spPr>
          <a:xfrm>
            <a:off x="5143680" y="5214960"/>
            <a:ext cx="500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0"/>
          <p:cNvSpPr/>
          <p:nvPr/>
        </p:nvSpPr>
        <p:spPr>
          <a:xfrm>
            <a:off x="6500880" y="5114880"/>
            <a:ext cx="500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20"/>
          <p:cNvSpPr/>
          <p:nvPr/>
        </p:nvSpPr>
        <p:spPr>
          <a:xfrm>
            <a:off x="7500960" y="5143680"/>
            <a:ext cx="428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20"/>
          <p:cNvSpPr/>
          <p:nvPr/>
        </p:nvSpPr>
        <p:spPr>
          <a:xfrm>
            <a:off x="2143080" y="5429160"/>
            <a:ext cx="285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20"/>
          <p:cNvSpPr/>
          <p:nvPr/>
        </p:nvSpPr>
        <p:spPr>
          <a:xfrm>
            <a:off x="2143080" y="2214720"/>
            <a:ext cx="285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20"/>
          <p:cNvSpPr/>
          <p:nvPr/>
        </p:nvSpPr>
        <p:spPr>
          <a:xfrm>
            <a:off x="3857760" y="2214720"/>
            <a:ext cx="42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20"/>
          <p:cNvSpPr/>
          <p:nvPr/>
        </p:nvSpPr>
        <p:spPr>
          <a:xfrm>
            <a:off x="2214720" y="3857760"/>
            <a:ext cx="42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0"/>
          <p:cNvSpPr/>
          <p:nvPr/>
        </p:nvSpPr>
        <p:spPr>
          <a:xfrm>
            <a:off x="3929040" y="385776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0"/>
          <p:cNvSpPr/>
          <p:nvPr/>
        </p:nvSpPr>
        <p:spPr>
          <a:xfrm>
            <a:off x="3071880" y="557208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74991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3e21"/>
                </a:solidFill>
                <a:latin typeface="Arial"/>
                <a:ea typeface="Arial"/>
              </a:rPr>
              <a:t>Проверь себ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356840" y="1428480"/>
            <a:ext cx="7427880" cy="2857320"/>
          </a:xfrm>
          <a:prstGeom prst="rect">
            <a:avLst/>
          </a:prstGeom>
          <a:solidFill>
            <a:srgbClr val="d4ebf1"/>
          </a:solidFill>
          <a:ln w="0">
            <a:noFill/>
          </a:ln>
        </p:spPr>
        <p:txBody>
          <a:bodyPr anchor="t">
            <a:normAutofit fontScale="88000"/>
          </a:bodyPr>
          <a:p>
            <a:pPr marL="313920" indent="-313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глядное изображение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А    Б    В    Г     Д     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313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313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ид спереди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   4   1   5    3   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313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3920" indent="-313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ид сверху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2  7   9  10  11  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Прямая соединительная линия 5"/>
          <p:cNvSpPr/>
          <p:nvPr/>
        </p:nvSpPr>
        <p:spPr>
          <a:xfrm flipH="1">
            <a:off x="5715000" y="1785960"/>
            <a:ext cx="1440" cy="2571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7"/>
          <p:cNvSpPr/>
          <p:nvPr/>
        </p:nvSpPr>
        <p:spPr>
          <a:xfrm flipH="1">
            <a:off x="6357960" y="1714680"/>
            <a:ext cx="1440" cy="25714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ая соединительная линия 9"/>
          <p:cNvSpPr/>
          <p:nvPr/>
        </p:nvSpPr>
        <p:spPr>
          <a:xfrm flipH="1">
            <a:off x="6858000" y="1714680"/>
            <a:ext cx="1440" cy="25714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ая соединительная линия 11"/>
          <p:cNvSpPr/>
          <p:nvPr/>
        </p:nvSpPr>
        <p:spPr>
          <a:xfrm flipH="1">
            <a:off x="7429680" y="1357200"/>
            <a:ext cx="1440" cy="25732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13"/>
          <p:cNvSpPr/>
          <p:nvPr/>
        </p:nvSpPr>
        <p:spPr>
          <a:xfrm flipH="1">
            <a:off x="5065560" y="1428120"/>
            <a:ext cx="5040" cy="26240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ая соединительная линия 15"/>
          <p:cNvSpPr/>
          <p:nvPr/>
        </p:nvSpPr>
        <p:spPr>
          <a:xfrm flipH="1">
            <a:off x="8143920" y="1714680"/>
            <a:ext cx="1440" cy="25714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ая соединительная линия 17"/>
          <p:cNvSpPr/>
          <p:nvPr/>
        </p:nvSpPr>
        <p:spPr>
          <a:xfrm>
            <a:off x="1428840" y="2071800"/>
            <a:ext cx="7358040" cy="1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ая соединительная линия 19"/>
          <p:cNvSpPr/>
          <p:nvPr/>
        </p:nvSpPr>
        <p:spPr>
          <a:xfrm>
            <a:off x="1428840" y="3143160"/>
            <a:ext cx="7358040" cy="1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21"/>
          <p:cNvSpPr/>
          <p:nvPr/>
        </p:nvSpPr>
        <p:spPr>
          <a:xfrm flipH="1">
            <a:off x="1355760" y="3357720"/>
            <a:ext cx="1440" cy="607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23"/>
          <p:cNvSpPr/>
          <p:nvPr/>
        </p:nvSpPr>
        <p:spPr>
          <a:xfrm>
            <a:off x="1357200" y="1428840"/>
            <a:ext cx="7429680" cy="1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ая соединительная линия 25"/>
          <p:cNvSpPr/>
          <p:nvPr/>
        </p:nvSpPr>
        <p:spPr>
          <a:xfrm flipH="1">
            <a:off x="8786880" y="1357200"/>
            <a:ext cx="1440" cy="26449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27"/>
          <p:cNvSpPr/>
          <p:nvPr/>
        </p:nvSpPr>
        <p:spPr>
          <a:xfrm>
            <a:off x="1571760" y="4286160"/>
            <a:ext cx="7215120" cy="1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ая соединительная линия 29"/>
          <p:cNvSpPr/>
          <p:nvPr/>
        </p:nvSpPr>
        <p:spPr>
          <a:xfrm flipH="1">
            <a:off x="5072040" y="4073400"/>
            <a:ext cx="1440" cy="2145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ая соединительная линия 31"/>
          <p:cNvSpPr/>
          <p:nvPr/>
        </p:nvSpPr>
        <p:spPr>
          <a:xfrm flipH="1">
            <a:off x="5715000" y="1428840"/>
            <a:ext cx="1440" cy="4284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ая соединительная линия 33"/>
          <p:cNvSpPr/>
          <p:nvPr/>
        </p:nvSpPr>
        <p:spPr>
          <a:xfrm flipH="1">
            <a:off x="6357960" y="1428840"/>
            <a:ext cx="1440" cy="3571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ая соединительная линия 35"/>
          <p:cNvSpPr/>
          <p:nvPr/>
        </p:nvSpPr>
        <p:spPr>
          <a:xfrm flipH="1">
            <a:off x="6858000" y="1428840"/>
            <a:ext cx="1440" cy="285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ая соединительная линия 37"/>
          <p:cNvSpPr/>
          <p:nvPr/>
        </p:nvSpPr>
        <p:spPr>
          <a:xfrm flipH="1">
            <a:off x="7429680" y="3930480"/>
            <a:ext cx="1440" cy="3574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ая соединительная линия 39"/>
          <p:cNvSpPr/>
          <p:nvPr/>
        </p:nvSpPr>
        <p:spPr>
          <a:xfrm flipH="1">
            <a:off x="8143920" y="1428840"/>
            <a:ext cx="1440" cy="285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ая соединительная линия 41"/>
          <p:cNvSpPr/>
          <p:nvPr/>
        </p:nvSpPr>
        <p:spPr>
          <a:xfrm flipH="1">
            <a:off x="8786880" y="4002120"/>
            <a:ext cx="1440" cy="285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ая соединительная линия 45"/>
          <p:cNvSpPr/>
          <p:nvPr/>
        </p:nvSpPr>
        <p:spPr>
          <a:xfrm>
            <a:off x="5070600" y="1428840"/>
            <a:ext cx="1440" cy="28573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ая соединительная линия 49"/>
          <p:cNvSpPr/>
          <p:nvPr/>
        </p:nvSpPr>
        <p:spPr>
          <a:xfrm flipH="1">
            <a:off x="1356840" y="1500120"/>
            <a:ext cx="1800" cy="2857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51"/>
          <p:cNvSpPr/>
          <p:nvPr/>
        </p:nvSpPr>
        <p:spPr>
          <a:xfrm>
            <a:off x="1357200" y="4286160"/>
            <a:ext cx="214560" cy="1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ая соединительная линия 53"/>
          <p:cNvSpPr/>
          <p:nvPr/>
        </p:nvSpPr>
        <p:spPr>
          <a:xfrm>
            <a:off x="1357200" y="3143160"/>
            <a:ext cx="214560" cy="1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55"/>
          <p:cNvSpPr/>
          <p:nvPr/>
        </p:nvSpPr>
        <p:spPr>
          <a:xfrm>
            <a:off x="1357200" y="2071800"/>
            <a:ext cx="214560" cy="1440"/>
          </a:xfrm>
          <a:prstGeom prst="line">
            <a:avLst/>
          </a:prstGeom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22160" y="4996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a_Helver Bashkir"/>
              </a:rPr>
              <a:t>Аксонометрические проекци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999720" y="1785600"/>
            <a:ext cx="8001000" cy="4357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	</a:t>
            </a:r>
            <a:r>
              <a:rPr b="1" lang="ru-RU" sz="3000" spc="-1" strike="noStrike">
                <a:solidFill>
                  <a:srgbClr val="35436a"/>
                </a:solidFill>
                <a:latin typeface="Corbel"/>
              </a:rPr>
              <a:t>Проецирование предмета на плоскость, при котором предмет на изображении  виден с трех сторон, называется </a:t>
            </a:r>
            <a:r>
              <a:rPr b="1" i="1" lang="ru-RU" sz="3000" spc="-1" strike="noStrike">
                <a:solidFill>
                  <a:srgbClr val="35436a"/>
                </a:solidFill>
                <a:latin typeface="Corbel"/>
              </a:rPr>
              <a:t>аксонометрическим</a:t>
            </a:r>
            <a:r>
              <a:rPr b="1" lang="ru-RU" sz="3000" spc="-1" strike="noStrike">
                <a:solidFill>
                  <a:srgbClr val="35436a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5436a"/>
                </a:solidFill>
                <a:latin typeface="Corbel"/>
              </a:rPr>
              <a:t>	</a:t>
            </a:r>
            <a:r>
              <a:rPr b="1" lang="ru-RU" sz="3000" spc="-1" strike="noStrike">
                <a:solidFill>
                  <a:srgbClr val="35436a"/>
                </a:solidFill>
                <a:latin typeface="Corbel"/>
              </a:rPr>
              <a:t>Проекции трехмерных объектов на плоскость, получаемые при аксонометрическом     проецировании, называются </a:t>
            </a:r>
            <a:r>
              <a:rPr b="1" i="1" lang="ru-RU" sz="3000" spc="-1" strike="noStrike">
                <a:solidFill>
                  <a:srgbClr val="35436a"/>
                </a:solidFill>
                <a:latin typeface="Corbel"/>
              </a:rPr>
              <a:t>аксонометрическими проекциями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7172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b1d15"/>
                </a:solidFill>
                <a:latin typeface="Corbel"/>
              </a:rPr>
              <a:t>Применение </a:t>
            </a:r>
            <a:br>
              <a:rPr sz="3400"/>
            </a:br>
            <a:r>
              <a:rPr b="1" lang="ru-RU" sz="3400" spc="-1" strike="noStrike">
                <a:solidFill>
                  <a:srgbClr val="3b1d15"/>
                </a:solidFill>
                <a:latin typeface="Corbel"/>
              </a:rPr>
              <a:t>аксонометрических   проекций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042560" y="1412640"/>
            <a:ext cx="78915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    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Аксонометрические проекции применяются для повышения наглядности изображе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	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Стандартами рекомендуется применять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    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3 вида аксонометрических проекций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Прямоугольная   изометрическая проекц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Прямоугольная   диметрическа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Косоугольная фронтальная диметрическая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851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3e21"/>
                </a:solidFill>
                <a:latin typeface="Corbel"/>
              </a:rPr>
              <a:t>Прямоугольная   </a:t>
            </a:r>
            <a:r>
              <a:rPr b="1" i="1" lang="ru-RU" sz="3200" spc="-1" strike="noStrike">
                <a:solidFill>
                  <a:srgbClr val="4b3e21"/>
                </a:solidFill>
                <a:latin typeface="Corbel"/>
              </a:rPr>
              <a:t>изо</a:t>
            </a:r>
            <a:r>
              <a:rPr b="1" lang="ru-RU" sz="3200" spc="-1" strike="noStrike">
                <a:solidFill>
                  <a:srgbClr val="4b3e21"/>
                </a:solidFill>
                <a:latin typeface="Corbel"/>
              </a:rPr>
              <a:t>метрическая аксонометрическая проекция (ПИАП)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071720" y="1643040"/>
            <a:ext cx="785808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5436a"/>
                </a:solidFill>
                <a:latin typeface="Corbel"/>
              </a:rPr>
              <a:t>                                           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Смысл  приставки «изо-» в названии трактуется, как «одинаковый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            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В изометрической аксонометрической проекции размеры откладываются по всем трем плоскостям с одинаковыми коэффициентами искажения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             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ГОСТ рекомендует откладывать по всем плоскостям размеры в натуральную величину. В результате изображение получается увеличенным на 18%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Corbel"/>
              </a:rPr>
              <a:t>Расположение осей прямоугольной   изометрическая проекция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Line 4"/>
          <p:cNvSpPr/>
          <p:nvPr/>
        </p:nvSpPr>
        <p:spPr>
          <a:xfrm>
            <a:off x="4572000" y="23493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"/>
          <p:cNvSpPr/>
          <p:nvPr/>
        </p:nvSpPr>
        <p:spPr>
          <a:xfrm flipV="1">
            <a:off x="2771640" y="4149360"/>
            <a:ext cx="1800360" cy="107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6"/>
          <p:cNvSpPr/>
          <p:nvPr/>
        </p:nvSpPr>
        <p:spPr>
          <a:xfrm flipH="1" flipV="1">
            <a:off x="4572000" y="4149720"/>
            <a:ext cx="194472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"/>
          <p:cNvSpPr/>
          <p:nvPr/>
        </p:nvSpPr>
        <p:spPr>
          <a:xfrm>
            <a:off x="4572000" y="414972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6732720" y="378936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b1d15"/>
                </a:solidFill>
                <a:latin typeface="Calibri"/>
              </a:rPr>
              <a:t>ГОРИЗОНТА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428472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0"/>
          <p:cNvSpPr/>
          <p:nvPr/>
        </p:nvSpPr>
        <p:spPr>
          <a:xfrm>
            <a:off x="2340000" y="50785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6516720" y="50846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rc 13"/>
          <p:cNvSpPr/>
          <p:nvPr/>
        </p:nvSpPr>
        <p:spPr>
          <a:xfrm flipH="1">
            <a:off x="2988720" y="2666880"/>
            <a:ext cx="1577880" cy="2276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14"/>
          <p:cNvSpPr/>
          <p:nvPr/>
        </p:nvSpPr>
        <p:spPr>
          <a:xfrm flipH="1">
            <a:off x="3241080" y="4143240"/>
            <a:ext cx="2711160" cy="1479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rc 15"/>
          <p:cNvSpPr/>
          <p:nvPr/>
        </p:nvSpPr>
        <p:spPr>
          <a:xfrm flipH="1">
            <a:off x="4571280" y="4152960"/>
            <a:ext cx="1576440" cy="712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6"/>
          <p:cNvSpPr/>
          <p:nvPr/>
        </p:nvSpPr>
        <p:spPr>
          <a:xfrm rot="17939400">
            <a:off x="2580120" y="31788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120</a:t>
            </a:r>
            <a:r>
              <a:rPr b="1" lang="en-US" sz="2000" spc="-1" strike="noStrike" baseline="30000">
                <a:solidFill>
                  <a:srgbClr val="3b1d15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4211640" y="56610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120</a:t>
            </a:r>
            <a:r>
              <a:rPr b="1" lang="en-US" sz="2000" spc="-1" strike="noStrike" baseline="30000">
                <a:solidFill>
                  <a:srgbClr val="3b1d15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8"/>
          <p:cNvSpPr/>
          <p:nvPr/>
        </p:nvSpPr>
        <p:spPr>
          <a:xfrm rot="17209800">
            <a:off x="5430600" y="42724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30</a:t>
            </a:r>
            <a:r>
              <a:rPr b="1" lang="en-US" sz="2000" spc="-1" strike="noStrike" baseline="30000">
                <a:solidFill>
                  <a:srgbClr val="3b1d15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6516720" y="2637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K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Line 6"/>
          <p:cNvSpPr/>
          <p:nvPr/>
        </p:nvSpPr>
        <p:spPr>
          <a:xfrm>
            <a:off x="4572000" y="126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7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8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rc 9"/>
          <p:cNvSpPr/>
          <p:nvPr/>
        </p:nvSpPr>
        <p:spPr>
          <a:xfrm flipH="1">
            <a:off x="2981160" y="1593720"/>
            <a:ext cx="1602000" cy="2276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rc 10"/>
          <p:cNvSpPr/>
          <p:nvPr/>
        </p:nvSpPr>
        <p:spPr>
          <a:xfrm flipH="1">
            <a:off x="3235320" y="3070080"/>
            <a:ext cx="2720880" cy="1479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rc 11"/>
          <p:cNvSpPr/>
          <p:nvPr/>
        </p:nvSpPr>
        <p:spPr>
          <a:xfrm flipH="1">
            <a:off x="4564800" y="1592280"/>
            <a:ext cx="1576440" cy="2201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2"/>
          <p:cNvSpPr/>
          <p:nvPr/>
        </p:nvSpPr>
        <p:spPr>
          <a:xfrm rot="17939400">
            <a:off x="2581920" y="20563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4211640" y="45226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 rot="3839400">
            <a:off x="5726520" y="2071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6"/>
          <p:cNvSpPr/>
          <p:nvPr/>
        </p:nvSpPr>
        <p:spPr>
          <a:xfrm>
            <a:off x="4284720" y="83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7"/>
          <p:cNvSpPr/>
          <p:nvPr/>
        </p:nvSpPr>
        <p:spPr>
          <a:xfrm>
            <a:off x="133200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8"/>
          <p:cNvSpPr/>
          <p:nvPr/>
        </p:nvSpPr>
        <p:spPr>
          <a:xfrm>
            <a:off x="81010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42640" y="142560"/>
            <a:ext cx="77151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4b3e21"/>
                </a:solidFill>
                <a:latin typeface="Arial"/>
                <a:ea typeface="Arial"/>
              </a:rPr>
              <a:t>Косоугольная фронтальная диметрическая проекция</a:t>
            </a:r>
            <a:r>
              <a:rPr b="0" lang="ru-RU" sz="3500" spc="-1" strike="noStrike">
                <a:solidFill>
                  <a:srgbClr val="4b3e21"/>
                </a:solidFill>
                <a:latin typeface="Arial"/>
                <a:ea typeface="Arial"/>
              </a:rPr>
              <a:t> (КФДАП) </a:t>
            </a: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42960" y="2071800"/>
            <a:ext cx="85010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Приставка «ди-» в названии означает «два»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	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В косоугольной фронтальной диметрической   проекции размеры по осям </a:t>
            </a:r>
            <a:r>
              <a:rPr b="1" lang="en-US" sz="4000" spc="-1" strike="noStrike">
                <a:solidFill>
                  <a:srgbClr val="835e01"/>
                </a:solidFill>
                <a:latin typeface="a_Helver Bashkir"/>
              </a:rPr>
              <a:t>x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 и </a:t>
            </a:r>
            <a:r>
              <a:rPr b="1" lang="en-US" sz="4000" spc="-1" strike="noStrike">
                <a:solidFill>
                  <a:srgbClr val="835e01"/>
                </a:solidFill>
                <a:latin typeface="a_Helver Bashkir"/>
              </a:rPr>
              <a:t>z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 откладываются без искажений,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   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а по оси </a:t>
            </a:r>
            <a:r>
              <a:rPr b="1" lang="en-US" sz="4000" spc="-1" strike="noStrike">
                <a:solidFill>
                  <a:srgbClr val="835e01"/>
                </a:solidFill>
                <a:latin typeface="a_Helver Bashkir"/>
              </a:rPr>
              <a:t>y</a:t>
            </a:r>
            <a:r>
              <a:rPr b="1" lang="ru-RU" sz="4000" spc="-1" strike="noStrike">
                <a:solidFill>
                  <a:srgbClr val="835e01"/>
                </a:solidFill>
                <a:latin typeface="a_Helver Bashkir"/>
              </a:rPr>
              <a:t> 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сокращаются в два раза. При этом изображение получается увеличенным на 6%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rector</cp:lastModifiedBy>
  <dcterms:modified xsi:type="dcterms:W3CDTF">2012-03-19T13:58:49Z</dcterms:modified>
  <cp:revision>31</cp:revision>
  <dc:subject/>
  <dc:title>Слайд 1</dc:title>
</cp:coreProperties>
</file>